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988-CE43-4C7E-8D57-E9A3C13E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kidshelpphone.ca/Teens/Home.aspx" TargetMode="External"/><Relationship Id="rId2" Type="http://schemas.openxmlformats.org/officeDocument/2006/relationships/hyperlink" Target="http://www.prevnet.ca/bullying/kids/letter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556-2212-4085-83DE-9023F61B4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ro – Me – presenting for 10 years, 6 kids (11-23) – I do this for them and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 is on instagram? Snap Chat? Vine?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 is on Facebook regular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ernet Generation- not one student here has ever not know the Internet or a Smart ph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mart phones 2002 o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one in your Instagram followers posts an inappropriate picture of a friend of yours, others are commenting and piling on with mean comments –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17D-F37E-4720-A1DD-379E284B39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nd your boy/girlfriend a “personal” picture via Snapchat. He/she takes a screensh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weeks later you want to break up with them and they threaten to share the picture.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04B-2616-40DC-9A5A-0241CA2FAC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YOU are being bulli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k away or leave the online conver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ep track of the bullying (write it down and/or save a screenshot of the online message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l a trusted adult. If you don't trust anyone or need to speak with someone urgently, contact the confidential and toll-free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ds Help Ph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the bullying to school administrato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criminal offences, such as threats, assaults and sexual exploitation to the local police detachmen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unwanted text messages to your telephone service provi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online bullying to the social media site and block the person respon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someone you know is being Bulli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you feel it's safe to do so, tell the bully to sto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 friends/students/youth or an adult who can help stop 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friend the person being bullied and lead them away from the situ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it to a teacher or school staff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l out an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onymous lett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drop it off to a teacher or any adult you tru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D62-0060-44E3-9DCE-2337EF0EEB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7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Canadian students in Grades 8-10 reported witnessing school bullying in the past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time, bullying stops in less than 10 seconds when bystanders interv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210-4224-4978-8A2C-FF44D41463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“Perman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– emotional injury as opposed to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what you post and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s =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65C0-1CBD-4A5B-9017-7377BBAA7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 43 poster that reminds us to THINK and get in touch with that moral compass – considering our choices and the consequences that come wit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6E0-33E0-4B51-8072-67F2A3BDC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ian kids spend an average of 7.5 hours in front of screens each day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it hard for a child to sleep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kid’s risk of attention problems, anxiety, and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a child’s risk of gaining too much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less time for active, creativ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 Sleep recharge yourself as well as your ph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’s Not About Abstinence, It’s Abou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ime/lots of new tech/lots of fre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you going to be when no one is loo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oices will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DF03-5151-47A7-9DBA-614B75429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/Tech Habits and behavi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we communicate, express, and be enter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o amazing about this and what’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s and the results of our choices/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our values – what we believe is right – the development of our moral 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3C6-700A-452D-8DB9-AE4C65996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E1CF-F6C0-436E-ACCC-0E473E993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sense of purpose in the palm of our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8C97-8C59-4FE6-A55B-2355AC6D1E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s are NOT the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3D6-2773-4A74-A984-AC0BC27D1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students surveyed, top 10 answers on the bo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/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/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nging/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re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He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Id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D8D3-5FBB-4323-86FC-838E9A118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2E59-AEF3-441E-AAC4-6B4F826C0A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ic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E259-E350-40C9-8A58-C9FACEC65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uming another person’s id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ing their personal information in a negativ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berbullying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ing mean or threatening emails or text/instant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ing embarrassing photos of someone on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website to make fun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ing to be someone by using thei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ing someone into revealing personal or embarrassing information and sending it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berbullying affects victims in different ways than traditional bullying. It can follow a victim everywhere 24 hours a day, 7 days a week, from school, to the mall and all the way into the comfort of their home - usually safe from traditional forms of bull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side looks so Cool, 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od side always 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It’s about inner peace. We carry negative things around with us that lead to stress, anxiety, de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voice and gut 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you when no one is loo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25C-2A55-45AA-9729-3FB037B61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B0F-7A26-4D47-8E94-E180DF4E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EDF-D8C0-4354-A1B8-6A625BBB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BD467-7E0D-4B44-9D67-1606CF1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14CBB-676E-4DC3-B535-68D3A76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A2F8-9C84-416C-8EC4-032D005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CF1E0-6D22-45F1-821B-DD77025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B35A1-1955-4808-985A-CA140865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7E322-DED9-4A7C-815C-634745D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A8C99-A641-4396-B82D-FD9AD3A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A00F-B676-4DA9-802B-DD542CAA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902A4-78A1-4DAC-82DE-AE07FBBF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9BCC3-F08A-47BE-B6FF-85528432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79F-4E84-4049-8041-E8ACDFAE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0C0A-3D57-4A76-BBAC-C0791E7C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3C076-F28F-4A38-BC34-850BBDE8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DFEBD-D0CD-4B63-884D-A21627AF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950D-F735-4641-9735-E6ABCC4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69149-7069-450E-A40A-24314B2C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2D410-545F-4F37-AD23-1DEAC68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CF9AB-1BC4-4710-84C0-233B3BA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62526-FDB1-487B-9367-8966B21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6CD8-20CC-4396-A346-F0DEBE9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33AAD-5885-4664-B171-4CE4716D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236-C4B5-4476-B3F6-B6EB0AC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A749-7B46-466D-8FF9-0D476F9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E4597-81EA-4F25-AA0D-B9C392FD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A019-C961-4773-A276-926C57BD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6811-819B-4E0B-895D-A1D0208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1A551-B515-41CE-B7B3-0A17402E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28291-790D-4B71-A953-21B3A9E3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9FB5D-CEA7-4F12-B738-DC65D1A8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DE284-05DA-4304-98B9-C234DA5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60E82-7141-41A9-A465-A93E981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5A558-FE11-4413-A44E-FCE864D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D7A3-9875-42AA-99B6-7361BD8F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AE7A5-2127-4145-B73D-A548D3C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13C49-1509-45F4-8856-725EC664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AE591-14A6-49B2-B741-53B8D54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209D3-BA0A-466E-8032-8DDF01BD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5B1EF-F1C7-4C1B-B215-1FAACEAD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EC6AE-9F06-4825-887E-0BD65072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5A7EE-A28E-44BB-B70E-09F99AC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05C46-C1D4-4494-ACD1-130C31F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06837-9481-4119-9439-0DC18EF5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C4545-8747-4353-A7CE-55206AB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4EC8-0A0C-49E6-B34B-E9C6509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2840A-2948-49E0-B1A5-D6E86010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AB2DA-699C-4DF9-ACE0-640ECEC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534C7-4D1A-460E-8C67-96888AC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8694-5976-4682-B3F3-5E54EA8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A6D47-31B7-4AEB-8541-6A61D22D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90B-17DC-4F9D-988F-2BE7F236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DE1-7106-44CC-8F92-3879757F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9477-B88B-43EE-AB88-DC2A295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00B4-125D-426E-ADE0-889A32A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6EA3-2D72-455C-8D6D-81C50EC4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010-225D-495E-9EC7-75D92A4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6C09-B2D6-4A6C-B304-4145306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CE9C-D0DB-4479-8B4C-2D04120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8A6F-8BCC-4705-831F-2C33BB2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C88-7222-4547-BEDD-01F23A25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13E4-D6E1-41ED-BC6B-E5926476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C114-EBC1-4EF3-B26B-FE24AC34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2C26-1D83-45B9-881C-C46EC2CE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DE07-E840-4921-8503-76F87A36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8E7D-ABF9-423A-9F57-377B5252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1A8B-706B-4204-A098-1B4FCE64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6D9-1C47-4F10-B296-6ABF50C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497D-4657-4E3C-820D-C53F5E6D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8668-84A0-4E87-9A0C-E819ABD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0E19-1CEE-4F76-BA14-E8E3DA0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63F8-028D-4108-BD10-0257EEB2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4893-E1D9-4476-9F2B-BE3DFA8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D016-24B7-4043-8F47-61A238E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A2EF-DE06-459B-8214-5717FED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F768-5CF2-48E5-84BF-76C4FBE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495E0-37A9-4BC6-A4EB-B286039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FEF3-5C67-413F-9AF0-6DEC4B6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11E-CFE2-4957-9FA6-6B7B276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4A11-0E9F-46CD-9CFE-6A6F8245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74A3-B6AA-42C3-BFFD-6709716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7038-28FB-47FB-AAA8-5285B59A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F7C2-4D4A-4752-922C-BE52655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AE53-D304-45CF-9C1B-E658DA8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15D6-2428-4537-8154-EC0FF4F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D30B-71D9-4350-AA33-96095010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0523-6C1E-4FBF-AA92-230031C0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E062-9B1D-4806-8A2B-A683EA4C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D1D87-F385-428D-A01D-24648AFE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260-0CA7-4126-A373-988EE02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64E82-4A39-4B06-BAA2-3EC5AF2D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018A-8F40-480E-A972-CBF866A3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0DAB-BA19-4CD6-9E96-3AF8820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7A62-9030-4201-BA9D-A35AA9E3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16B6-90A9-4937-8D98-360A4812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2747-2782-4495-9453-1930377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5887-3AA8-469C-8B37-ECCC06F8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430D-2F64-4D09-A7F3-17E4BB69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092A-E187-4C7F-8535-A75D435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69B3-4B65-491B-A15C-196FEC9A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8CB-E439-4C5B-A042-5EA3686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DF89D-5A9F-40AF-948C-F29B08DE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C952-9CE9-490E-9B05-2634CAE2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C0CF-0D54-4727-93BE-FF4F309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47F53-DF2D-4D95-8338-14473B2A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194C-684C-4476-8238-B8E2FA2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C65D-DE00-4DDB-8CF6-CE3B8196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926D8-FA1C-4832-90D9-EBFDE43B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F5CC-C440-42F6-8EAE-128C42E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E3AA-DF10-41A3-BF7F-3EFD11D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67EE-EA02-4E63-A5B6-8EA93744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00A-7D74-4184-A86D-7F95E42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E108-4120-404E-A273-55B8679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9685-653D-4088-8479-6357D0EF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E4CC5-5277-4D37-81AF-09B0005D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5D58-9A60-4852-A380-4EBCB8B1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8BB9-B9C1-42EA-B073-B91BF1C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B940-A565-40AF-89A1-0BE0142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2859-E6C5-4E73-9DF6-3E7910C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14B7-3CF4-480C-8075-8E4B1765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9E488-7D61-41B4-8E66-267691A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4785-903D-4B55-B76F-3FEB3F4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246-617E-4FE2-8944-304F4FF4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E9DE-03BF-422E-8CD9-A468AFC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E6C1-9C2B-4817-9595-90C4354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B74D-82ED-4ACF-B785-1B873F12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8DB3-71B2-47A6-8D4D-99EB9941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A15BA-0665-42B8-956E-C0FAE098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85874-E7B4-4DDA-A915-BE79A62B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7823-E5DE-4C53-BA8C-A03DEA70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14093-9935-4FC9-80D0-550CCCA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8AE11-B9AC-4DD5-8DF6-3C0EAD3D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DB68-65C4-496D-AE32-8EE75BD7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2B1-85C6-490E-9B74-06897E6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C02FC-60C4-45B2-B4A1-A3A36683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02287-0D33-4C6B-B826-FCC7A221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169EE-17BD-4DE3-A173-A946956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50457-AE7A-4191-98CB-1F21CF8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967F6-BD8D-4BB5-A8E5-197F4BE1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EC31-0E7A-468D-A480-C83A5F6C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323D-0087-4F60-8C9D-7CE838BA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A2606-F2BA-4708-8236-DC953EC1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C84BA-3390-407D-AAE5-CF0CF808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0045B-EDE9-456B-8B06-F4859292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CAB1-6916-4A20-92C0-E518A6278A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453-B7A1-441A-AEB2-D0EEA99D9A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F27-E05E-4916-A2CB-C06DBAF0D5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32B-5EF6-4B20-9AF5-25647ECC22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94A-3B85-4267-9042-F7F43F08AD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7007-55C1-4FD1-B1FB-89EEF2B731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451"/>
              </a:spcBef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451"/>
              </a:spcBef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159-68AF-46D1-A5AC-E0EB1AB277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8C8-805A-4855-B4B4-C322966D77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7807-4A2A-48E8-9A1B-CF24239A04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B18-227A-4B62-A665-C1945B51C8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5D56-B861-48EE-8858-8147BC801C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B232-05C9-4893-8B6F-1FCE0DC4BF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32720" cy="10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ockwell"/>
              </a:rPr>
              <a:t>Growing up Digital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5" name="Picture 9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1498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"/>
          <p:cNvPicPr/>
          <p:nvPr/>
        </p:nvPicPr>
        <p:blipFill>
          <a:blip r:embed="rId2"/>
          <a:stretch/>
        </p:blipFill>
        <p:spPr>
          <a:xfrm>
            <a:off x="3132000" y="2349360"/>
            <a:ext cx="520236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Content Placeholder 1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322960" cy="3541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3203640" y="185760"/>
            <a:ext cx="2759040" cy="27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 rot="17100000">
            <a:off x="-1257480" y="3033360"/>
            <a:ext cx="50659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71" name="Content Placeholder 5" descr=""/>
          <p:cNvPicPr/>
          <p:nvPr/>
        </p:nvPicPr>
        <p:blipFill>
          <a:blip r:embed="rId1"/>
          <a:stretch/>
        </p:blipFill>
        <p:spPr>
          <a:xfrm>
            <a:off x="3468600" y="963720"/>
            <a:ext cx="4681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1096920" y="333360"/>
            <a:ext cx="3603600" cy="3602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4140360" y="4292640"/>
            <a:ext cx="31255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Content Placeholder 3" descr=""/>
          <p:cNvPicPr/>
          <p:nvPr/>
        </p:nvPicPr>
        <p:blipFill>
          <a:blip r:embed="rId1"/>
          <a:stretch/>
        </p:blipFill>
        <p:spPr>
          <a:xfrm>
            <a:off x="2513160" y="461880"/>
            <a:ext cx="4622760" cy="5846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"/>
          <p:cNvPicPr/>
          <p:nvPr/>
        </p:nvPicPr>
        <p:blipFill>
          <a:blip r:embed="rId2"/>
          <a:stretch/>
        </p:blipFill>
        <p:spPr>
          <a:xfrm>
            <a:off x="4968720" y="2189160"/>
            <a:ext cx="1078200" cy="1090440"/>
          </a:xfrm>
          <a:prstGeom prst="rect">
            <a:avLst/>
          </a:prstGeom>
          <a:ln w="0">
            <a:noFill/>
          </a:ln>
        </p:spPr>
      </p:pic>
      <p:pic>
        <p:nvPicPr>
          <p:cNvPr id="576" name="Bulletin Board - Online Safety Commercial.mp4" descr=""/>
          <p:cNvPicPr/>
          <p:nvPr/>
        </p:nvPicPr>
        <p:blipFill>
          <a:blip r:embed="rId3"/>
          <a:stretch/>
        </p:blipFill>
        <p:spPr>
          <a:xfrm>
            <a:off x="1206360" y="426960"/>
            <a:ext cx="6632640" cy="593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ontent Placeholder 3" descr=""/>
          <p:cNvPicPr/>
          <p:nvPr/>
        </p:nvPicPr>
        <p:blipFill>
          <a:blip r:embed="rId1"/>
          <a:stretch/>
        </p:blipFill>
        <p:spPr>
          <a:xfrm>
            <a:off x="2225520" y="92160"/>
            <a:ext cx="4480200" cy="67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 rot="17100000">
            <a:off x="-1310760" y="2655000"/>
            <a:ext cx="506592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ckwell"/>
              </a:rPr>
              <a:t>Screen Tim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693880" y="476280"/>
            <a:ext cx="6255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Let’s have a conversation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"/>
          <p:cNvSpPr txBox="1"/>
          <p:nvPr/>
        </p:nvSpPr>
        <p:spPr>
          <a:xfrm rot="900000">
            <a:off x="3191040" y="985320"/>
            <a:ext cx="465768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8" name="Picture 6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756400" cy="29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18920" y="115920"/>
            <a:ext cx="50655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History Lesson…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0" name="Nokia_ Go Play - 4th Screen.mp4" descr=""/>
          <p:cNvPicPr/>
          <p:nvPr/>
        </p:nvPicPr>
        <p:blipFill>
          <a:blip r:embed="rId1"/>
          <a:stretch/>
        </p:blipFill>
        <p:spPr>
          <a:xfrm>
            <a:off x="712800" y="884160"/>
            <a:ext cx="7547040" cy="571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82680" y="475920"/>
            <a:ext cx="64785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Rockwell"/>
              </a:rPr>
              <a:t>Experts??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1988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684360" y="1440000"/>
            <a:ext cx="78930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Rockwell"/>
              </a:rPr>
              <a:t>Why tech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tretch/>
        </p:blipFill>
        <p:spPr>
          <a:xfrm>
            <a:off x="2430360" y="2637000"/>
            <a:ext cx="5342040" cy="3095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5100480" y="692280"/>
            <a:ext cx="39070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 rot="17100000">
            <a:off x="-1704960" y="2349360"/>
            <a:ext cx="554976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can go wrong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2311560" y="1916280"/>
            <a:ext cx="6495840" cy="3686040"/>
          </a:xfrm>
          <a:prstGeom prst="rect">
            <a:avLst/>
          </a:prstGeom>
          <a:ln w="0">
            <a:noFill/>
          </a:ln>
        </p:spPr>
      </p:pic>
      <p:pic>
        <p:nvPicPr>
          <p:cNvPr id="560" name="Cyberbully PSA - Talent Show.mp4" descr=""/>
          <p:cNvPicPr/>
          <p:nvPr/>
        </p:nvPicPr>
        <p:blipFill>
          <a:blip r:embed="rId2"/>
          <a:stretch/>
        </p:blipFill>
        <p:spPr>
          <a:xfrm>
            <a:off x="781200" y="573120"/>
            <a:ext cx="80769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-bully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s using the Internet, cell phones, or other technology to send or post images or texts intended to hurt or embarrass another perso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23088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55640" y="836640"/>
            <a:ext cx="360036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Choice?</a:t>
            </a:r>
            <a:endParaRPr b="0" lang="en-US" sz="6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4" name="Content Placeholder 3" descr=""/>
          <p:cNvPicPr/>
          <p:nvPr/>
        </p:nvPicPr>
        <p:blipFill>
          <a:blip r:embed="rId1"/>
          <a:stretch/>
        </p:blipFill>
        <p:spPr>
          <a:xfrm>
            <a:off x="-112680" y="2597040"/>
            <a:ext cx="4681440" cy="2632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4535640" y="2597040"/>
            <a:ext cx="4630680" cy="263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5-12-11T20:22:00Z</dcterms:modified>
  <cp:revision>105</cp:revision>
  <dc:subject/>
  <dc:title>Technology, kids and you</dc:title>
</cp:coreProperties>
</file>